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842-65C9-4243-BB40-A81DFBAC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B6A-2486-44C1-A601-6B8B8B84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461-8CB8-4EAE-B2B0-B8ADF600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67E-F719-41B1-95C6-7DC84E65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CCE0-0560-4DB8-A589-444C0C6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8DC6-D162-438A-A04C-B7723E53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1881-2633-4232-A1F4-BC37D16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942B-4B13-4A9D-A06F-AC9E1F4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519-3682-4AF3-B693-4BC8D3E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82D8-BBAC-45A4-9F86-EE6FE19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D656-A558-458C-8EDE-31F9EF8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45E-A602-4BD7-AFBF-5073B7C9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7B46-E2C4-4744-8E50-ACD8A7B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19BF-718F-4C0D-8C82-8901F24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D6A-7D0F-4D6B-ADC7-D115ADC3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C46-83B9-4C4B-BB85-DF8FA5A8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623-4EF7-43E1-B070-A735480A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2AC-240D-411B-8CAD-E100C50C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552-D5B3-4E8E-B970-4CFE1DE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260-4040-4590-A072-213A795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7A1-DA16-4EC1-9A40-8A6D02B5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001-8D6E-45C0-ABFE-DF5315E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34F-AF53-4D9F-BA19-6227DF0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DAB-36CC-4D30-B990-76BF643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8AA0-B1D8-4690-B9A7-92641B7515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0F4D-A10A-4404-8A53-0D352B0F8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rtmouth.edu/~dcare/facts/clubdrugs.html" TargetMode="External"/><Relationship Id="rId2" Type="http://schemas.openxmlformats.org/officeDocument/2006/relationships/hyperlink" Target="http://www.sadd.org/newsletter/03newsspring.pdf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ub Dru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ra Miller and Danielle Gard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371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7984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19520" y="10666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u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24920" y="327672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; Danielle Gardiner and Kara Mi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ther information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ub Drugs look like prescription dru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victims of club drugs, don’t know they’re taking the drug EX: some drugs may be slipped into drink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aacce"/>
                </a:solidFill>
                <a:uFillTx/>
                <a:latin typeface="Arial"/>
                <a:hlinkClick r:id="rId1"/>
              </a:rPr>
              <a:t>www.dartmouth.edu/~dcare/facts/clubdrugs.htm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xt bo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aacce"/>
                </a:solidFill>
                <a:uFillTx/>
                <a:latin typeface="Arial"/>
                <a:hlinkClick r:id="rId2"/>
              </a:rPr>
              <a:t>http://www.sadd.org/newsletter/03newsspring.pd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7254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at is a Club Drug?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ub Drug is a drug commonly used at dance clubs and “rave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w Club Drugs are more widely availabl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look like prescription pi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at is it made of?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ub Drugs can be made by using household kitchen ingredients, however, other types of Club Drugs are made from a mixture of unknown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armful Affect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ngth and quality of Club Drugs are unpredictab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y Danger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fects vary from person to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de Effects include: Amnesia, Paranoia, Hallucination, increased heart rate and blood pressure, blurred vision, muscle tension, severe sweating and chills, nausea , increased body temperature, organ failure, decreased blood pressure, drowsiness, dizziness, confusion, memory loss, and even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ethods of us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ken or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taken with a combination of many Club Dru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taken with alcoh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Ecstas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stasy (MDMA) (Also called XTC, X, Adam, Clarity, Love Drug, Georgia Home Boy, and G) Ecstasy is a combined Stimulant and Hallucino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Ecstasy: Drugs called “Ecstasy” often contain other substances besides MDMA that make them even more danger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Rohypnol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hypnol (Also called Roofies, Rophies, or Forget-me pill) Rohypnol is a CNS depress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Rohypnol: Associated with “Date Rapes”; small doses can impair a user for up to 12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GHB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HB (Gamma hydroxybutyrate) (Also Called grievous bodily Harm, G, or Liquid Ecstasy.) GHB is a CNS depressant; Also has anabolic (Body-building effec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GHB: Associated with “Date Rapes”; High doses may result in sleep, coma, or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Ketamin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tamine (Also called K, vitamin K, Cat Valium) Ketamine is a Hallucinog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Ketamine: High doses may cause delirium and fatal respiratory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32:19Z</dcterms:created>
  <dc:creator>SETUP</dc:creator>
  <dc:description/>
  <dc:language>en-US</dc:language>
  <cp:lastModifiedBy>SETUP</cp:lastModifiedBy>
  <dcterms:modified xsi:type="dcterms:W3CDTF">2010-02-24T17:47:18Z</dcterms:modified>
  <cp:revision>3</cp:revision>
  <dc:subject/>
  <dc:title>Club Drugs</dc:title>
</cp:coreProperties>
</file>